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20D-826E-4762-B217-478F2769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540-771E-446D-A063-BB53A52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936-ADA5-47D9-9E90-E9E992C0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052-EED7-4D5F-B1D7-86846DB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C755-06D1-4863-9751-440AF8FD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F62-2AF1-4708-8739-1539EE5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A33B-3EEC-48D5-873D-F72C4A4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4B8C-CDE4-495C-A638-9DBF016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463-DE53-4B30-A9CA-D0903A70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CD5F-4704-4D9F-915D-2881496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FF3-1CFD-408D-BB29-729C503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0B7-3F57-4B5B-9D65-A6B98D62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B1AD-F19D-4FFC-9252-42EAA64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688-CE90-4E92-B34C-6D073D2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B9F3-C462-4B5B-83B8-E08F4B83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1E3-F294-4E6D-AB08-2BCA499C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3A5-5411-4E73-8B2F-7388DD7B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BEE-B54A-4A22-84C1-96AB8A0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5BE-3ED6-40FE-BB78-B8C49930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D10-2583-4D81-8EA6-9583DF63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181-2919-428A-81D7-7953937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5D7-BDAC-4A71-9D94-96BD38C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58E-5C02-4959-8B4F-7C06AAC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2EB-2DAA-4F9D-894D-109F0B3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5379-307B-49EE-90E1-BC93DDBFC16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592-C365-4646-A4B1-3BC67F8DBA6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Homeland Securit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An Evolving Concep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467560" cy="140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The Future of Homeland Securit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aptive Measures: Theoretical and Practical Consider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rolling Terrorism: Understanding Fundamental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International Collaboration on Law Enforcement and Intellig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daptive Measures: Theoretical and Practical Consideration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ingle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ory: Responding to Profile of New Terrorism, Legal Challenges, and Complex Initiativ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acticality: Realistic Assessment of the Terrorist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200400" y="649296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ntrolling Terrorism: Understanding Fundamental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allenge of Countering Extrem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allenge of Building Collaborative Consensu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allenge of Countering the New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International Collaboration on Law Enforcement and Intellig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reased Responsibilities after September 11,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vide the Means to Track Operatives and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arceration and Exchange of Intelligence Inform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302320" cy="171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efending the Homeland: Ongoing Patterns of Political Viol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Threat From Ideological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Threat From International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national Terrorism in the United Sta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unterpoints to International Terror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3:36Z</dcterms:modified>
  <cp:revision>130</cp:revision>
  <dc:subject/>
  <dc:title>Slide 1</dc:title>
</cp:coreProperties>
</file>